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BD0-EF69-4298-B72D-BF5D7CD7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851-37C7-4298-939F-3066C796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AEB-34AE-409F-BE51-45F6D91F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CF6-7FF8-4CA6-A5ED-FC1C7A3A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49D-235C-44E5-A560-2195A8E4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2AD-5A5A-4137-86CE-E32E310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675-B06B-48F0-B389-738D828C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97B-9359-4FE6-8258-98EEE9A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4A0-CC35-4A1C-ABD1-E7DDC786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98B-C39C-4718-BDA8-364ECB7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9F2-0DF5-401D-8F6B-98D3A4E2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FA5-E269-451A-9070-59E8985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856-AE96-465D-91CF-A3EFA05D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NIMBYs have in their back gard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1b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5:01:13Z</dcterms:created>
  <dc:creator>sthobbsc</dc:creator>
  <dc:description/>
  <dc:language>en-US</dc:language>
  <cp:lastModifiedBy>sthobbsc</cp:lastModifiedBy>
  <dcterms:modified xsi:type="dcterms:W3CDTF">2007-01-04T15:01:22Z</dcterms:modified>
  <cp:revision>1</cp:revision>
  <dc:subject/>
  <dc:title>What do NIMBYs have in their back gardens?</dc:title>
</cp:coreProperties>
</file>